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B14-4D49-41FC-ACBD-103A3ED7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E6D-5655-4843-A3D4-7F71718C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20E-CA83-4CCB-B02B-394031EE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2AA-C2BC-4DA5-9BBC-7F0FD219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7CE-81FF-4F33-9723-51F8067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A91-F990-4D02-A8EE-4E26B2C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40D-26C8-495A-9613-44FD029F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766-C015-422C-B668-147B43D1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231-619E-4D30-A3D8-4BC8A42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CFE-4741-486D-BF38-EA1DD1F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FFC-4E07-4874-BCC8-F65B56C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B9E-70A6-4533-870B-5EC2755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B65C-98AD-49E8-9DAE-5BC1FE41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0"/>
            <a:ext cx="472464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مَن أحيانا بالموتِ صلب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إقبل موتانا في دارِ الخُ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غيثَ المراحم أَسبِغ علي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خيرَ راحم يا بحرَ الج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فليستنيروا مِنْ نورِ وجهِ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ولَيستريحوا مَع مَنْ</a:t>
            </a:r>
            <a:r>
              <a:rPr b="1" lang="ar-SA" sz="4000" spc="-1" strike="noStrike">
                <a:solidFill>
                  <a:srgbClr val="ffff66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أرضَو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0400" y="152280"/>
            <a:ext cx="450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43:33Z</dcterms:created>
  <dc:creator>HANI SAFI</dc:creator>
  <dc:description/>
  <dc:language>en-US</dc:language>
  <cp:lastModifiedBy>HANI SAFI</cp:lastModifiedBy>
  <dcterms:modified xsi:type="dcterms:W3CDTF">2003-04-10T10:32:56Z</dcterms:modified>
  <cp:revision>2</cp:revision>
  <dc:subject/>
  <dc:title>Slide 1</dc:title>
</cp:coreProperties>
</file>